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13.gif" ContentType="image/gif"/>
  <Override PartName="/ppt/media/image1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20.jpeg" ContentType="image/jpeg"/>
  <Override PartName="/ppt/media/image14.gif" ContentType="image/gif"/>
  <Override PartName="/ppt/media/image19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D26-AC95-4FEF-AFCB-B06EAA0C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8117-D50C-4C51-93F0-D920104E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EF34-86E5-4B84-861F-51E25A4B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E7FA-B33F-4FD7-8359-77D8E700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7BBC-EB60-4782-97B5-4A823704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835E-3E6D-4879-8241-AD0C5D6B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58C1-30D7-4DCB-A262-4408A8F5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DA5C-2C99-4CBC-8332-8469818D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305C-658B-4056-937D-A4EFEE70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F573-A7E2-4637-874D-1074C6F1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0381-75EF-4D0C-8A8F-72B5EF01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DF7B-9678-48F4-8CC4-24F50748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1449-617B-4DF2-ABFE-78DB1073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9408-756D-4185-AC6B-052A08FE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5F97-8FC2-4B8A-9769-247DDDBE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5FFC-FB93-4468-9216-D03499E0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571F-1C6F-499C-B373-814E4AC8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D1CA0-351A-4EFD-A455-7E716A86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5AB56-18AC-4D77-B72F-A35392A5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89916-13B7-4D24-B57C-7092F7EA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2C9EA-001C-40F1-ACFA-0AFD5D71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2BCC2-5B12-4D0A-92EF-D2877B52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D5A-E395-481D-A8A5-10B45293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61049-83DB-43CB-A6A2-B2DD717A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8F6CC-D317-4D3A-8C99-FB886557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7AF33-B12A-4021-ADFD-B799D815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EB64B-CF52-48E4-9701-F08BEA8D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9CE80-C3DF-4EF2-BC33-DDACB1A3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25812-E48B-439A-B14F-5B1A059B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AFF69-4945-450A-BB80-ACD85D1D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2A052-75A2-43DE-9B14-3062C4B7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7FDB9-F614-491F-89DE-F88405F4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F6965-776C-4D14-86A8-F1378CA3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0932-7DA9-4076-91EA-D6A12D2A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AF44D-E074-413A-83AC-255E5830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1C6E6-D00D-4EBB-91C4-FBD61D11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0FCBD-056E-4219-BD37-AFA7ACBB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8457B-3FD1-4B52-92DB-DA274C82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03622-47C8-4253-B5C3-99EDFEDC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57B21-3696-4770-BE9B-1BF11DAB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64E7F-1357-46FE-A2A0-B357BD4F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B920B-33C0-4B07-B606-4B7672C3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E6F4E-FD2D-43FB-AFCD-BE59D17B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293C3-68F3-4DE7-9093-8C6DCB4C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82B4-41FE-4F87-B6F9-FBE8500C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D6720-6B4B-4E5A-99DD-2C542E06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1B516-3C69-451E-B2A1-44DF80B3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A2A82-6CB3-49E7-A0A2-5B8C81A9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3FC3A-5CED-4753-9964-31A3BC99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75462-5F42-4C33-A4EF-E857625B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EE1F1-79BD-4E1E-B8D6-19242E50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591ED-7BCE-4F1B-925B-3F03F33E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CBD65-C558-4794-95BB-94FFFBEB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00006-2B5E-4489-8780-6F1AF0D7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5B2FB-F27B-4793-9E02-E8D45D80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E34D-A2F3-4F18-A7E5-7EB7A648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4EA8D-2C6A-49F4-8259-C5FF4629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92E3-BBBE-45E9-A87C-BFA76365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E2BB-F52C-49F7-93B8-76FD97AB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BC36-42AE-4772-9748-C2ADCD99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6F04-4468-4AA1-B85C-5F2302663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195E-0128-43ED-BC38-BD81A17F6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C7D1-4FD7-48B1-AAB1-872F08DEC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430C-916A-4F8F-BCEF-685F9CF88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1e7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007F-7337-4E31-B6C7-6A7689E0C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upload.wikimedia.org/wikipedia/commons/4/48/0092_-_Wien_-_Kunsthistorisches_Museum_-_Gaius_Julius_Caesar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en.wikipedia.org/wiki/Image:USA_Great_Seal_Reverse.png" TargetMode="Externa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8"/>
          <p:cNvSpPr/>
          <p:nvPr/>
        </p:nvSpPr>
        <p:spPr>
          <a:xfrm>
            <a:off x="0" y="0"/>
            <a:ext cx="9144000" cy="73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da 3-21 &amp; 22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Finish Latin Work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93600" y="1066680"/>
            <a:ext cx="9050400" cy="2037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  Use the G.R. 9-1 to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uler of the Roman Empire was called a wh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What  is the type of government that is ruled by a dictat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state in which people elect their lead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o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 Pluribus Un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6172200" y="1447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mperor or dic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5" descr="4pix"/>
          <p:cNvPicPr/>
          <p:nvPr/>
        </p:nvPicPr>
        <p:blipFill>
          <a:blip r:embed="rId1"/>
          <a:stretch/>
        </p:blipFill>
        <p:spPr>
          <a:xfrm>
            <a:off x="2938320" y="3333600"/>
            <a:ext cx="3267360" cy="1908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5"/>
          <p:cNvSpPr/>
          <p:nvPr/>
        </p:nvSpPr>
        <p:spPr>
          <a:xfrm>
            <a:off x="6400800" y="2286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693432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ictat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7" descr="August1"/>
          <p:cNvPicPr/>
          <p:nvPr/>
        </p:nvPicPr>
        <p:blipFill>
          <a:blip r:embed="rId2"/>
          <a:srcRect l="0" t="0" r="0" b="23912"/>
          <a:stretch/>
        </p:blipFill>
        <p:spPr>
          <a:xfrm>
            <a:off x="0" y="3886200"/>
            <a:ext cx="1752480" cy="2971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9" descr="Image:0092 - Wien - Kunsthistorisches Museum - Gaius Julius Caesar.jpg">
            <a:hlinkClick r:id="rId3"/>
          </p:cNvPr>
          <p:cNvPicPr/>
          <p:nvPr/>
        </p:nvPicPr>
        <p:blipFill>
          <a:blip r:embed="rId4"/>
          <a:srcRect l="3778" t="4666" r="9111" b="14000"/>
          <a:stretch/>
        </p:blipFill>
        <p:spPr>
          <a:xfrm>
            <a:off x="7002360" y="3809880"/>
            <a:ext cx="2141640" cy="3048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1" descr="RSC_0022"/>
          <p:cNvPicPr/>
          <p:nvPr/>
        </p:nvPicPr>
        <p:blipFill>
          <a:blip r:embed="rId5"/>
          <a:srcRect l="0" t="0" r="49711" b="0"/>
          <a:stretch/>
        </p:blipFill>
        <p:spPr>
          <a:xfrm>
            <a:off x="1981080" y="3886200"/>
            <a:ext cx="2117880" cy="2286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2" descr="tx1"/>
          <p:cNvPicPr/>
          <p:nvPr/>
        </p:nvPicPr>
        <p:blipFill>
          <a:blip r:embed="rId6"/>
          <a:stretch/>
        </p:blipFill>
        <p:spPr>
          <a:xfrm>
            <a:off x="4343400" y="388620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3"/>
          <p:cNvSpPr/>
          <p:nvPr/>
        </p:nvSpPr>
        <p:spPr>
          <a:xfrm>
            <a:off x="4402080" y="26938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ut of many,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4"/>
          <p:cNvSpPr/>
          <p:nvPr/>
        </p:nvSpPr>
        <p:spPr>
          <a:xfrm>
            <a:off x="2590920" y="0"/>
            <a:ext cx="358128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Get out a red pen and G.R. 9-1 Red, Green, &amp; Blue map penc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olosseum_outside"/>
          <p:cNvPicPr/>
          <p:nvPr/>
        </p:nvPicPr>
        <p:blipFill>
          <a:blip r:embed="rId1"/>
          <a:stretch/>
        </p:blipFill>
        <p:spPr>
          <a:xfrm>
            <a:off x="609480" y="1219320"/>
            <a:ext cx="7772400" cy="5638680"/>
          </a:xfrm>
          <a:prstGeom prst="rect">
            <a:avLst/>
          </a:prstGeom>
          <a:ln w="0">
            <a:noFill/>
          </a:ln>
        </p:spPr>
      </p:pic>
      <p:sp>
        <p:nvSpPr>
          <p:cNvPr id="236" name="WordArt 3"/>
          <p:cNvSpPr txBox="1"/>
          <p:nvPr/>
        </p:nvSpPr>
        <p:spPr>
          <a:xfrm>
            <a:off x="2971800" y="304920"/>
            <a:ext cx="2733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Colosseu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reconstruction drawing of Colosseum"/>
          <p:cNvPicPr/>
          <p:nvPr/>
        </p:nvPicPr>
        <p:blipFill>
          <a:blip r:embed="rId1"/>
          <a:stretch/>
        </p:blipFill>
        <p:spPr>
          <a:xfrm>
            <a:off x="380880" y="533520"/>
            <a:ext cx="8077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olo2_s"/>
          <p:cNvPicPr/>
          <p:nvPr/>
        </p:nvPicPr>
        <p:blipFill>
          <a:blip r:embed="rId1"/>
          <a:stretch/>
        </p:blipFill>
        <p:spPr>
          <a:xfrm>
            <a:off x="228600" y="380880"/>
            <a:ext cx="4038480" cy="42674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coloseum"/>
          <p:cNvPicPr/>
          <p:nvPr/>
        </p:nvPicPr>
        <p:blipFill>
          <a:blip r:embed="rId2"/>
          <a:stretch/>
        </p:blipFill>
        <p:spPr>
          <a:xfrm>
            <a:off x="4343400" y="2666880"/>
            <a:ext cx="480060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roman Coliseum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olosseum_underground"/>
          <p:cNvPicPr/>
          <p:nvPr/>
        </p:nvPicPr>
        <p:blipFill>
          <a:blip r:embed="rId1"/>
          <a:stretch/>
        </p:blipFill>
        <p:spPr>
          <a:xfrm>
            <a:off x="1523880" y="1380960"/>
            <a:ext cx="6096240" cy="40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cid_aj1301_b"/>
          <p:cNvPicPr/>
          <p:nvPr/>
        </p:nvPicPr>
        <p:blipFill>
          <a:blip r:embed="rId1"/>
          <a:stretch/>
        </p:blipFill>
        <p:spPr>
          <a:xfrm>
            <a:off x="361800" y="561960"/>
            <a:ext cx="84204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id_aj1303_b"/>
          <p:cNvPicPr/>
          <p:nvPr/>
        </p:nvPicPr>
        <p:blipFill>
          <a:blip r:embed="rId1"/>
          <a:stretch/>
        </p:blipFill>
        <p:spPr>
          <a:xfrm>
            <a:off x="361800" y="561960"/>
            <a:ext cx="84204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dollar"/>
          <p:cNvPicPr/>
          <p:nvPr/>
        </p:nvPicPr>
        <p:blipFill>
          <a:blip r:embed="rId1"/>
          <a:stretch/>
        </p:blipFill>
        <p:spPr>
          <a:xfrm>
            <a:off x="5553000" y="3295800"/>
            <a:ext cx="3591000" cy="35622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"/>
          <p:cNvSpPr/>
          <p:nvPr/>
        </p:nvSpPr>
        <p:spPr>
          <a:xfrm>
            <a:off x="457200" y="4114800"/>
            <a:ext cx="45720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ng NOVUS ORDO SECLOR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: new, young, nov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: row, series, or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lor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: of the ages, of the generations, of the centu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ccurate translation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vus Ordo Seclor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ew Order of the 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Reverse side of the Great Seal of the United Stat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9920" y="304920"/>
            <a:ext cx="2590560" cy="25146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5"/>
          <p:cNvSpPr/>
          <p:nvPr/>
        </p:nvSpPr>
        <p:spPr>
          <a:xfrm>
            <a:off x="304920" y="0"/>
            <a:ext cx="434340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ng ANNUIT COEPT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u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 to nod assent, to favor, to smile upon.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ept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 undertakings, endeavors, beginn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nuit coept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 "favors (lit., gives the nod to) undertakings." The subject must be supplied. Who favors? The Eye (Providence) do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nce favors our undertakin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or 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nce has favored our undertakin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"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4724280" y="13716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4800600" y="49528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19560" y="99036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 word do we use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362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glish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nb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6019920" y="2057400"/>
            <a:ext cx="274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, anniver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1"/>
          <p:cNvSpPr/>
          <p:nvPr/>
        </p:nvSpPr>
        <p:spPr>
          <a:xfrm>
            <a:off x="4724280" y="0"/>
            <a:ext cx="1752840" cy="6858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0" y="0"/>
            <a:ext cx="4648320" cy="70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 infinit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lessly, to inf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royed, er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m, 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itter, twink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mposition, a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v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tle,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4952880" y="838080"/>
            <a:ext cx="419112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ve,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r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47242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>
            <a:off x="16765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64771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4800600" y="3808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in                    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66720" y="6091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Great Builders of Ol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ivilization is so identified with constructing and building things than the Roman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queducts, roads, baths, walls, theatres, temples, arches, cities, palaces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y built a world from which later peoples still benefitted for a long time to com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of their old roads are even still in use today. So too, some of their great amphitheatres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http://rome.mrdonn.org/rome04.gif"/>
          <p:cNvPicPr/>
          <p:nvPr/>
        </p:nvPicPr>
        <p:blipFill>
          <a:blip r:embed="rId1"/>
          <a:stretch/>
        </p:blipFill>
        <p:spPr>
          <a:xfrm>
            <a:off x="0" y="0"/>
            <a:ext cx="4191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pantheon_s"/>
          <p:cNvPicPr/>
          <p:nvPr/>
        </p:nvPicPr>
        <p:blipFill>
          <a:blip r:embed="rId1"/>
          <a:srcRect l="0" t="6124" r="0" b="0"/>
          <a:stretch/>
        </p:blipFill>
        <p:spPr>
          <a:xfrm>
            <a:off x="0" y="0"/>
            <a:ext cx="5029200" cy="3505320"/>
          </a:xfrm>
          <a:prstGeom prst="rect">
            <a:avLst/>
          </a:prstGeom>
          <a:ln w="0">
            <a:noFill/>
          </a:ln>
        </p:spPr>
      </p:pic>
      <p:sp>
        <p:nvSpPr>
          <p:cNvPr id="221" name="WordArt 7"/>
          <p:cNvSpPr txBox="1"/>
          <p:nvPr/>
        </p:nvSpPr>
        <p:spPr>
          <a:xfrm>
            <a:off x="914400" y="4419720"/>
            <a:ext cx="2362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nthe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22" name="Picture 9" descr="model_Pantheon_model"/>
          <p:cNvPicPr/>
          <p:nvPr/>
        </p:nvPicPr>
        <p:blipFill>
          <a:blip r:embed="rId2"/>
          <a:stretch/>
        </p:blipFill>
        <p:spPr>
          <a:xfrm>
            <a:off x="4038480" y="3490920"/>
            <a:ext cx="51055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Pantheon_Dome"/>
          <p:cNvPicPr/>
          <p:nvPr/>
        </p:nvPicPr>
        <p:blipFill>
          <a:blip r:embed="rId1"/>
          <a:stretch/>
        </p:blipFill>
        <p:spPr>
          <a:xfrm>
            <a:off x="228600" y="380880"/>
            <a:ext cx="4191120" cy="3090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pcd03-10"/>
          <p:cNvPicPr/>
          <p:nvPr/>
        </p:nvPicPr>
        <p:blipFill>
          <a:blip r:embed="rId2"/>
          <a:stretch/>
        </p:blipFill>
        <p:spPr>
          <a:xfrm>
            <a:off x="4724280" y="380880"/>
            <a:ext cx="4038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arches of an aqueduct"/>
          <p:cNvPicPr/>
          <p:nvPr/>
        </p:nvPicPr>
        <p:blipFill>
          <a:blip r:embed="rId1"/>
          <a:stretch/>
        </p:blipFill>
        <p:spPr>
          <a:xfrm>
            <a:off x="762120" y="1752480"/>
            <a:ext cx="7696080" cy="4257720"/>
          </a:xfrm>
          <a:prstGeom prst="rect">
            <a:avLst/>
          </a:prstGeom>
          <a:ln w="0">
            <a:noFill/>
          </a:ln>
        </p:spPr>
      </p:pic>
      <p:sp>
        <p:nvSpPr>
          <p:cNvPr id="226" name="WordArt 5"/>
          <p:cNvSpPr txBox="1"/>
          <p:nvPr/>
        </p:nvSpPr>
        <p:spPr>
          <a:xfrm>
            <a:off x="2895480" y="838080"/>
            <a:ext cx="263844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quedu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archcon10"/>
          <p:cNvPicPr/>
          <p:nvPr/>
        </p:nvPicPr>
        <p:blipFill>
          <a:blip r:embed="rId1"/>
          <a:srcRect l="0" t="11447" r="0" b="0"/>
          <a:stretch/>
        </p:blipFill>
        <p:spPr>
          <a:xfrm>
            <a:off x="685800" y="533520"/>
            <a:ext cx="7391520" cy="4952880"/>
          </a:xfrm>
          <a:prstGeom prst="rect">
            <a:avLst/>
          </a:prstGeom>
          <a:ln w="0">
            <a:noFill/>
          </a:ln>
        </p:spPr>
      </p:pic>
      <p:sp>
        <p:nvSpPr>
          <p:cNvPr id="228" name="WordArt 7"/>
          <p:cNvSpPr txBox="1"/>
          <p:nvPr/>
        </p:nvSpPr>
        <p:spPr>
          <a:xfrm>
            <a:off x="2057400" y="5638680"/>
            <a:ext cx="4724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stantine's Ar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keystn1"/>
          <p:cNvPicPr/>
          <p:nvPr/>
        </p:nvPicPr>
        <p:blipFill>
          <a:blip r:embed="rId1"/>
          <a:stretch/>
        </p:blipFill>
        <p:spPr>
          <a:xfrm>
            <a:off x="1905120" y="228600"/>
            <a:ext cx="5486400" cy="51339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3"/>
          <p:cNvSpPr/>
          <p:nvPr/>
        </p:nvSpPr>
        <p:spPr>
          <a:xfrm>
            <a:off x="914400" y="5715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yst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most important stone in an arch bridge, without this stone the arch would collapse. The keystone holds the arch toget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keystone"/>
          <p:cNvPicPr/>
          <p:nvPr/>
        </p:nvPicPr>
        <p:blipFill>
          <a:blip r:embed="rId1"/>
          <a:stretch/>
        </p:blipFill>
        <p:spPr>
          <a:xfrm>
            <a:off x="685800" y="685800"/>
            <a:ext cx="7543800" cy="4572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990720" y="548640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an arch can be built a wooden frame is built. This allows the stones to be put in position. The frame is removed after the stones are in po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KeystoneBoss"/>
          <p:cNvPicPr/>
          <p:nvPr/>
        </p:nvPicPr>
        <p:blipFill>
          <a:blip r:embed="rId1"/>
          <a:stretch/>
        </p:blipFill>
        <p:spPr>
          <a:xfrm>
            <a:off x="609480" y="457200"/>
            <a:ext cx="7772400" cy="510552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3">
            <a:hlinkClick r:id="" action="ppaction://hlinkshowjump?jump=firstslide"/>
          </p:cNvPr>
          <p:cNvSpPr/>
          <p:nvPr/>
        </p:nvSpPr>
        <p:spPr>
          <a:xfrm>
            <a:off x="4191120" y="563868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  <a:path fill="darken" w="21600" h="25926">
                <a:moveTo>
                  <a:pt x="10800" y="6000"/>
                </a:moveTo>
                <a:lnTo>
                  <a:pt x="13376" y="8611"/>
                </a:lnTo>
                <a:lnTo>
                  <a:pt x="13376" y="6870"/>
                </a:lnTo>
                <a:lnTo>
                  <a:pt x="15152" y="6870"/>
                </a:lnTo>
                <a:lnTo>
                  <a:pt x="15152" y="10387"/>
                </a:lnTo>
                <a:lnTo>
                  <a:pt x="17763" y="12963"/>
                </a:lnTo>
                <a:lnTo>
                  <a:pt x="16109" y="12963"/>
                </a:lnTo>
                <a:lnTo>
                  <a:pt x="16109" y="20152"/>
                </a:lnTo>
                <a:lnTo>
                  <a:pt x="5491" y="20152"/>
                </a:lnTo>
                <a:lnTo>
                  <a:pt x="5491" y="12963"/>
                </a:lnTo>
                <a:lnTo>
                  <a:pt x="3837" y="12963"/>
                </a:lnTo>
                <a:close/>
              </a:path>
              <a:path fill="darkenLess" w="21600" h="25926">
                <a:moveTo>
                  <a:pt x="13376" y="8611"/>
                </a:moveTo>
                <a:lnTo>
                  <a:pt x="13376" y="6870"/>
                </a:lnTo>
                <a:lnTo>
                  <a:pt x="15152" y="6870"/>
                </a:lnTo>
                <a:lnTo>
                  <a:pt x="15152" y="10387"/>
                </a:lnTo>
                <a:close/>
              </a:path>
              <a:path fill="darkenLess" w="21600" h="25926">
                <a:moveTo>
                  <a:pt x="9877" y="16462"/>
                </a:moveTo>
                <a:lnTo>
                  <a:pt x="11723" y="16462"/>
                </a:lnTo>
                <a:lnTo>
                  <a:pt x="11723" y="20152"/>
                </a:lnTo>
                <a:lnTo>
                  <a:pt x="16109" y="20152"/>
                </a:lnTo>
                <a:lnTo>
                  <a:pt x="16109" y="12963"/>
                </a:lnTo>
                <a:lnTo>
                  <a:pt x="5491" y="12963"/>
                </a:lnTo>
                <a:lnTo>
                  <a:pt x="5491" y="20152"/>
                </a:lnTo>
                <a:lnTo>
                  <a:pt x="9877" y="2015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3:03:49Z</dcterms:created>
  <dc:creator>poweruser</dc:creator>
  <dc:description/>
  <dc:language>en-US</dc:language>
  <cp:lastModifiedBy>poweruser</cp:lastModifiedBy>
  <dcterms:modified xsi:type="dcterms:W3CDTF">2012-03-22T12:39:45Z</dcterms:modified>
  <cp:revision>36</cp:revision>
  <dc:subject/>
  <dc:title>Slide 1</dc:title>
</cp:coreProperties>
</file>